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3760" cy="373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2AF4E-41CA-4279-895A-DA24A2E6A89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3760" cy="373032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Colocar mill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8700-8D89-4681-BB04-EDDB3488C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5400-B845-4976-BEF0-9E2970A46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9C98-9DCE-484D-99E4-50CE5D39A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9D1B-55FA-4BE7-BBE2-9BC48362E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0B3A-0177-40FF-A7D3-18F2F4782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EA91-33CD-4C57-9BA1-937C8FFAE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EF1C-9961-4D5A-8BDF-ECC0716F3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990A-C980-47C4-8F07-DCCEF66A3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BC09-4D82-4B07-AC9E-2F3195821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C97A-AF5C-4060-9330-DC4FED9F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C72E-4E22-4ACF-8372-5C30FA3C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A716-658A-4276-BFCB-F13E5173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91CFA-4132-47D4-9D8B-F734CF006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52280" y="457200"/>
          <a:ext cx="6324840" cy="576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57200"/>
                    <a:ext cx="6324840" cy="57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4043160" y="6248520"/>
            <a:ext cx="245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600" spc="-1" strike="noStrike">
                <a:solidFill>
                  <a:srgbClr val="000000"/>
                </a:solidFill>
                <a:latin typeface="Arial"/>
              </a:rPr>
              <a:t>fuente: Libro Oro de SN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372320" y="-15480"/>
            <a:ext cx="652824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COMPETITIVIDAD DE LA HARINA DE PESCADO CON LA HARINA DE SOY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52280" y="380880"/>
          <a:ext cx="8686800" cy="6286680"/>
        </p:xfrm>
        <a:graphic>
          <a:graphicData uri="http://schemas.openxmlformats.org/drawingml/2006/table">
            <a:tbl>
              <a:tblPr/>
              <a:tblGrid>
                <a:gridCol w="1600200"/>
                <a:gridCol w="2895840"/>
                <a:gridCol w="419076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rigen común como fertiliz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lanta de soya  utilizada 1134-246 AC. China Dinastía Cho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nchoveta /sardin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200-1400D.C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c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limento Primar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-140 AC</a:t>
                      </a: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ducto fermentado Natto, Miso, Salsa soy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spués como tof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Japon-Indones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escado seco sal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sumo Industrial ( harin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SA 19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erú 19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ntes, Japón, U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limento direc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teína de Soy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eche de Soya</a:t>
                      </a: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ntabilidad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$ 2´ a 300´ (1980-20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centrado prote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Japón / Pesca Per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982: Marine bee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mportancia al año 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ducto Milagroso (*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SA: 72’ acres/74’T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undo:180’ T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sumo Producto para la acuicultura mundial de alimen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erú: 1’ T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undo: 2.4’ TM (6’ M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01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vestigación y Posicionamiento del mercado mund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S$80’-100’/anho auspiciado por United Soy bean board (*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inanciamiento 0.5/1.0% del precio de soy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FF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inisterio de Produc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inisterio de RRE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N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mar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d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m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mp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a Banca/Universida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152280" y="457200"/>
          <a:ext cx="8915400" cy="6149880"/>
        </p:xfrm>
        <a:graphic>
          <a:graphicData uri="http://schemas.openxmlformats.org/drawingml/2006/table">
            <a:tbl>
              <a:tblPr/>
              <a:tblGrid>
                <a:gridCol w="1447920"/>
                <a:gridCol w="2819520"/>
                <a:gridCol w="4647960"/>
              </a:tblGrid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versión física en la productividad del product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nor conversión debido a baja digestibilida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ayor contaminación 1000m3 de agua / 1 TM Prod. 1 Ha de tierra cultivada rinde 2.5-3T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ayor conversión debido a alta digestibil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nor contaminación 1000m3 agua mar / 20TM pescado. 1Ha de superficie cultivada de mar rinde 180/200 TM de pescad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6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alud y nutri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ntinutrientes y ot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ripsina (enzima bloquea absorción proteína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Ácido phistatico (baja absorción minerales) en Zinc requiere lysina y methion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decuada estructura de amino ácidos y niveles de Zn ingesta de pescado favorece el sistema nervioso y evita la depre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mega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eservación del ambi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fecto largo plaz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esticidas, herbicid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razabil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fectos inmediatos trazabilidad y presión de no alterar ecosistema Antibióticos, vacun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4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su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ran éxito en la producción y participación de alimentos balanceados inclusive se ofrecen productos con 92%`de digestibilidad y que pueden sustituir el 80% de harina de pesc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camarones) Producto final: Como carne de vacuno crece al 2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nor participación en la producción de alimentos balanceados .Precios altos incidirán en Mayor sustitución 70% de participación en 1972 y 35% hoy di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ustitución, escasa promoción y extensión del producto acuicul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erdida y/o reducción de mercados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ailandia, Taiwá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ecio producto final Desplazamiento de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rcado para acuicultura, Maricul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150480" y="685800"/>
            <a:ext cx="5275440" cy="5410080"/>
            <a:chOff x="150480" y="685800"/>
            <a:chExt cx="5275440" cy="5410080"/>
          </a:xfrm>
        </p:grpSpPr>
        <p:sp>
          <p:nvSpPr>
            <p:cNvPr id="120" name=""/>
            <p:cNvSpPr/>
            <p:nvPr/>
          </p:nvSpPr>
          <p:spPr>
            <a:xfrm>
              <a:off x="168120" y="685800"/>
              <a:ext cx="5257800" cy="54100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9360" y="2209680"/>
              <a:ext cx="4647960" cy="3124440"/>
            </a:xfrm>
            <a:custGeom>
              <a:avLst/>
              <a:gdLst/>
              <a:ahLst/>
              <a:rect l="l" t="t" r="r" b="b"/>
              <a:pathLst>
                <a:path w="2928" h="1968">
                  <a:moveTo>
                    <a:pt x="0" y="1968"/>
                  </a:moveTo>
                  <a:lnTo>
                    <a:pt x="192" y="1968"/>
                  </a:lnTo>
                  <a:lnTo>
                    <a:pt x="528" y="1920"/>
                  </a:lnTo>
                  <a:lnTo>
                    <a:pt x="768" y="1920"/>
                  </a:lnTo>
                  <a:lnTo>
                    <a:pt x="1056" y="1824"/>
                  </a:lnTo>
                  <a:lnTo>
                    <a:pt x="1344" y="1728"/>
                  </a:lnTo>
                  <a:lnTo>
                    <a:pt x="1632" y="1536"/>
                  </a:lnTo>
                  <a:lnTo>
                    <a:pt x="1824" y="1392"/>
                  </a:lnTo>
                  <a:lnTo>
                    <a:pt x="1968" y="1344"/>
                  </a:lnTo>
                  <a:lnTo>
                    <a:pt x="2064" y="1296"/>
                  </a:lnTo>
                  <a:lnTo>
                    <a:pt x="2256" y="1056"/>
                  </a:lnTo>
                  <a:lnTo>
                    <a:pt x="2448" y="768"/>
                  </a:lnTo>
                  <a:lnTo>
                    <a:pt x="2592" y="432"/>
                  </a:lnTo>
                  <a:lnTo>
                    <a:pt x="2736" y="288"/>
                  </a:lnTo>
                  <a:lnTo>
                    <a:pt x="2928" y="0"/>
                  </a:lnTo>
                </a:path>
              </a:pathLst>
            </a:custGeom>
            <a:noFill/>
            <a:ln w="572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9360" y="4038480"/>
              <a:ext cx="4647960" cy="1371600"/>
            </a:xfrm>
            <a:custGeom>
              <a:avLst/>
              <a:gdLst/>
              <a:ahLst/>
              <a:rect l="l" t="t" r="r" b="b"/>
              <a:pathLst>
                <a:path w="2928" h="864">
                  <a:moveTo>
                    <a:pt x="0" y="864"/>
                  </a:moveTo>
                  <a:lnTo>
                    <a:pt x="192" y="816"/>
                  </a:lnTo>
                  <a:lnTo>
                    <a:pt x="432" y="816"/>
                  </a:lnTo>
                  <a:lnTo>
                    <a:pt x="672" y="768"/>
                  </a:lnTo>
                  <a:lnTo>
                    <a:pt x="1008" y="720"/>
                  </a:lnTo>
                  <a:lnTo>
                    <a:pt x="1152" y="720"/>
                  </a:lnTo>
                  <a:lnTo>
                    <a:pt x="1392" y="672"/>
                  </a:lnTo>
                  <a:lnTo>
                    <a:pt x="1488" y="672"/>
                  </a:lnTo>
                  <a:lnTo>
                    <a:pt x="1584" y="624"/>
                  </a:lnTo>
                  <a:lnTo>
                    <a:pt x="1632" y="672"/>
                  </a:lnTo>
                  <a:lnTo>
                    <a:pt x="1872" y="576"/>
                  </a:lnTo>
                  <a:lnTo>
                    <a:pt x="1968" y="624"/>
                  </a:lnTo>
                  <a:lnTo>
                    <a:pt x="2112" y="480"/>
                  </a:lnTo>
                  <a:lnTo>
                    <a:pt x="2256" y="336"/>
                  </a:lnTo>
                  <a:lnTo>
                    <a:pt x="2400" y="336"/>
                  </a:lnTo>
                  <a:lnTo>
                    <a:pt x="2496" y="336"/>
                  </a:lnTo>
                  <a:lnTo>
                    <a:pt x="2640" y="288"/>
                  </a:lnTo>
                  <a:lnTo>
                    <a:pt x="2736" y="240"/>
                  </a:lnTo>
                  <a:lnTo>
                    <a:pt x="2784" y="144"/>
                  </a:lnTo>
                  <a:lnTo>
                    <a:pt x="2928" y="0"/>
                  </a:lnTo>
                </a:path>
              </a:pathLst>
            </a:custGeom>
            <a:noFill/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49360" y="3886200"/>
              <a:ext cx="4724280" cy="1523880"/>
            </a:xfrm>
            <a:custGeom>
              <a:avLst/>
              <a:gdLst/>
              <a:ahLst/>
              <a:rect l="l" t="t" r="r" b="b"/>
              <a:pathLst>
                <a:path w="2976" h="960">
                  <a:moveTo>
                    <a:pt x="0" y="960"/>
                  </a:moveTo>
                  <a:lnTo>
                    <a:pt x="192" y="912"/>
                  </a:lnTo>
                  <a:lnTo>
                    <a:pt x="288" y="960"/>
                  </a:lnTo>
                  <a:lnTo>
                    <a:pt x="432" y="912"/>
                  </a:lnTo>
                  <a:lnTo>
                    <a:pt x="624" y="912"/>
                  </a:lnTo>
                  <a:lnTo>
                    <a:pt x="720" y="912"/>
                  </a:lnTo>
                  <a:lnTo>
                    <a:pt x="864" y="912"/>
                  </a:lnTo>
                  <a:lnTo>
                    <a:pt x="1104" y="864"/>
                  </a:lnTo>
                  <a:lnTo>
                    <a:pt x="1296" y="864"/>
                  </a:lnTo>
                  <a:lnTo>
                    <a:pt x="1440" y="816"/>
                  </a:lnTo>
                  <a:lnTo>
                    <a:pt x="1632" y="816"/>
                  </a:lnTo>
                  <a:lnTo>
                    <a:pt x="1776" y="720"/>
                  </a:lnTo>
                  <a:lnTo>
                    <a:pt x="2064" y="720"/>
                  </a:lnTo>
                  <a:lnTo>
                    <a:pt x="2256" y="576"/>
                  </a:lnTo>
                  <a:lnTo>
                    <a:pt x="2448" y="288"/>
                  </a:lnTo>
                  <a:lnTo>
                    <a:pt x="2640" y="288"/>
                  </a:lnTo>
                  <a:lnTo>
                    <a:pt x="2976" y="0"/>
                  </a:lnTo>
                </a:path>
              </a:pathLst>
            </a:custGeom>
            <a:noFill/>
            <a:ln w="572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9360" y="5334120"/>
              <a:ext cx="4647960" cy="228600"/>
            </a:xfrm>
            <a:custGeom>
              <a:avLst/>
              <a:gdLst/>
              <a:ahLst/>
              <a:rect l="l" t="t" r="r" b="b"/>
              <a:pathLst>
                <a:path w="2928" h="144">
                  <a:moveTo>
                    <a:pt x="0" y="144"/>
                  </a:moveTo>
                  <a:lnTo>
                    <a:pt x="288" y="144"/>
                  </a:lnTo>
                  <a:lnTo>
                    <a:pt x="768" y="144"/>
                  </a:lnTo>
                  <a:lnTo>
                    <a:pt x="1152" y="144"/>
                  </a:lnTo>
                  <a:lnTo>
                    <a:pt x="1536" y="144"/>
                  </a:lnTo>
                  <a:lnTo>
                    <a:pt x="1680" y="96"/>
                  </a:lnTo>
                  <a:lnTo>
                    <a:pt x="1920" y="96"/>
                  </a:lnTo>
                  <a:lnTo>
                    <a:pt x="2112" y="48"/>
                  </a:lnTo>
                  <a:lnTo>
                    <a:pt x="2256" y="48"/>
                  </a:lnTo>
                  <a:lnTo>
                    <a:pt x="2496" y="48"/>
                  </a:lnTo>
                  <a:lnTo>
                    <a:pt x="2688" y="48"/>
                  </a:lnTo>
                  <a:lnTo>
                    <a:pt x="2928" y="0"/>
                  </a:lnTo>
                </a:path>
              </a:pathLst>
            </a:custGeom>
            <a:noFill/>
            <a:ln w="572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074320" y="2295360"/>
              <a:ext cx="1756440" cy="151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Finf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Mollus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Aquatic pla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Crustacea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30760" y="1735200"/>
              <a:ext cx="433800" cy="40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01640" y="1981080"/>
              <a:ext cx="46483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01640" y="2666880"/>
              <a:ext cx="46483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25320" y="3429000"/>
              <a:ext cx="46483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01640" y="4114800"/>
              <a:ext cx="46483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5320" y="4876920"/>
              <a:ext cx="46483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8760" y="812880"/>
              <a:ext cx="525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00"/>
                  </a:solidFill>
                  <a:latin typeface="Arial Narrow"/>
                </a:rPr>
                <a:t>Trend of World Aquaculture Production by Spec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85200" y="5675400"/>
              <a:ext cx="487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1970   1975   1980   1985   1990   1995   2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50480" y="1459080"/>
              <a:ext cx="100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400" spc="-1" strike="noStrike">
                  <a:solidFill>
                    <a:srgbClr val="000000"/>
                  </a:solidFill>
                  <a:latin typeface="Arial"/>
                </a:rPr>
                <a:t>Million M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686880" y="228600"/>
            <a:ext cx="517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TENDENCIA MUNDIAL DE ACUICUL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304920" y="533520"/>
          <a:ext cx="6095880" cy="581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533520"/>
                    <a:ext cx="6095880" cy="58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 flipV="1">
            <a:off x="3505320" y="2209680"/>
            <a:ext cx="198108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57200" y="1600200"/>
          <a:ext cx="8229600" cy="459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5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1523520" y="838080"/>
            <a:ext cx="178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Especie: Jur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100,000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191120" y="2666880"/>
            <a:ext cx="137160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057760" y="203040"/>
            <a:ext cx="531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RENTABILIDAD DEL RECURSO PELAG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228600" y="685800"/>
          <a:ext cx="541008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85800"/>
                    <a:ext cx="541008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5638680" y="1066680"/>
            <a:ext cx="990720" cy="4546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Indir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Can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Cu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Froz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Fre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15000" y="426672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5715000" y="34290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715000" y="320004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715000" y="289512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715000" y="190476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347360" y="624852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600" spc="-1" strike="noStrike">
                <a:solidFill>
                  <a:srgbClr val="000000"/>
                </a:solidFill>
                <a:latin typeface="Arial"/>
              </a:rPr>
              <a:t>fuente: FA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8400" y="152280"/>
            <a:ext cx="807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TENDENCIA CONSUMO MUNDIAL DE PRODUCTOS PESQU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07320" y="50292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5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83280" y="3809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27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59240" y="327672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8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106960" y="2971800"/>
            <a:ext cx="5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10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83280" y="23623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3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304920" y="533520"/>
          <a:ext cx="6019560" cy="587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533520"/>
                    <a:ext cx="6019560" cy="58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228600" y="533520"/>
          <a:ext cx="670572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533520"/>
                    <a:ext cx="67057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963240" y="624852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3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105160" y="175248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7793600">
            <a:off x="644040" y="4870800"/>
            <a:ext cx="2628000" cy="1407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884485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8844853"/>
              </a:path>
            </a:pathLst>
          </a:cu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 rot="10752600">
            <a:off x="2818440" y="3530160"/>
            <a:ext cx="1060200" cy="3390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10800000"/>
              </a:path>
            </a:pathLst>
          </a:cu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 rot="10752600">
            <a:off x="3882600" y="3219120"/>
            <a:ext cx="1401480" cy="401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10800000"/>
              </a:path>
            </a:pathLst>
          </a:cu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 rot="10752600">
            <a:off x="5281920" y="3372480"/>
            <a:ext cx="1195200" cy="3553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6"/>
                </a:moveTo>
                <a:arcTo wR="10800" hR="10800" stAng="10645312" swAng="10954688"/>
                <a:lnTo>
                  <a:pt x="10800" y="10800"/>
                </a:lnTo>
                <a:close/>
              </a:path>
              <a:path fill="none" w="21600" h="21600">
                <a:moveTo>
                  <a:pt x="11" y="11286"/>
                </a:moveTo>
                <a:arcTo wR="10800" hR="10800" stAng="10645312" swAng="10954688"/>
              </a:path>
            </a:pathLst>
          </a:cu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 rot="10031400">
            <a:off x="6522120" y="4055040"/>
            <a:ext cx="1018440" cy="247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96" y="7564"/>
                </a:moveTo>
                <a:arcTo wR="10800" hR="10800" stAng="-9753862" swAng="9753862"/>
                <a:lnTo>
                  <a:pt x="10800" y="10800"/>
                </a:lnTo>
                <a:close/>
              </a:path>
              <a:path fill="none" w="21600" h="21600">
                <a:moveTo>
                  <a:pt x="496" y="7564"/>
                </a:moveTo>
                <a:arcTo wR="10800" hR="10800" stAng="-9753862" swAng="9753862"/>
              </a:path>
            </a:pathLst>
          </a:cu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17793600">
            <a:off x="-860400" y="3645360"/>
            <a:ext cx="9753120" cy="6184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852850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8528502"/>
              </a:path>
            </a:pathLst>
          </a:custGeom>
          <a:noFill/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81880" y="52452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32960" y="52308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8320" y="52308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064120" y="523080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259320" y="523080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315200" y="523080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1219320" y="6235560"/>
            <a:ext cx="6446880" cy="1296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415120" y="2060640"/>
            <a:ext cx="0" cy="317016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 rot="10800000">
            <a:off x="70200" y="4224960"/>
            <a:ext cx="1264680" cy="2010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416" y="1575"/>
                </a:moveTo>
                <a:arcTo wR="10800" hR="10800" stAng="-3520161" swAng="3346117"/>
                <a:lnTo>
                  <a:pt x="10800" y="10800"/>
                </a:lnTo>
                <a:close/>
              </a:path>
              <a:path fill="none" w="21600" h="21600">
                <a:moveTo>
                  <a:pt x="16416" y="1575"/>
                </a:moveTo>
                <a:arcTo wR="10800" hR="10800" stAng="-3520161" swAng="3346117"/>
              </a:path>
            </a:pathLst>
          </a:cu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84240" y="5230800"/>
            <a:ext cx="710424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95280" y="5694480"/>
            <a:ext cx="352440" cy="387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602080" y="5694480"/>
            <a:ext cx="352080" cy="387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57600" y="5694480"/>
            <a:ext cx="351000" cy="387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29520" y="5694480"/>
            <a:ext cx="352440" cy="387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33960" y="5694480"/>
            <a:ext cx="352440" cy="387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385040" y="5694480"/>
            <a:ext cx="351000" cy="387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11040" y="0"/>
            <a:ext cx="705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ibilidades de Pronostico a Largo Plaz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99360" y="1447920"/>
            <a:ext cx="208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iclos de Biom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chov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3962520"/>
            <a:ext cx="113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iclos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p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-592560" y="291528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ternancia Clima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20" y="5334120"/>
            <a:ext cx="12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n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228600" y="1108080"/>
          <a:ext cx="8686800" cy="46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08080"/>
                    <a:ext cx="8686800" cy="46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1148040" y="45720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Pesca 1962-19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491440" y="45720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Pesca 1992-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73400" y="3236760"/>
            <a:ext cx="19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(Pesca promed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48040" y="45720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Pesca 1962-19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96360" y="45720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Pesca 1992-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04920" y="1060560"/>
          <a:ext cx="8686800" cy="478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0560"/>
                    <a:ext cx="86868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2273400" y="3236760"/>
            <a:ext cx="19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(Pesca promed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28640" y="6095880"/>
            <a:ext cx="30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(Sin Incluir el Nino Seve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304920" y="1066680"/>
          <a:ext cx="7010280" cy="48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6680"/>
                    <a:ext cx="7010280" cy="48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2211840" y="457200"/>
            <a:ext cx="501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TENDENCIA MUNDIAL DE PESQUER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228600" y="884160"/>
          <a:ext cx="7086600" cy="50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884160"/>
                    <a:ext cx="7086600" cy="50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2135880" y="304920"/>
            <a:ext cx="501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TENDENCIA MUNDIAL DE PESQUER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0T18:17:32Z</dcterms:created>
  <dc:creator>B&amp;G</dc:creator>
  <dc:description/>
  <dc:language>en-US</dc:language>
  <cp:lastModifiedBy>jore</cp:lastModifiedBy>
  <dcterms:modified xsi:type="dcterms:W3CDTF">2004-03-31T16:45:03Z</dcterms:modified>
  <cp:revision>70</cp:revision>
  <dc:subject/>
  <dc:title>Diapositiva 1</dc:title>
</cp:coreProperties>
</file>